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02DD-F41E-411E-82C8-0C8E1CE8A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www.scilearn.com/results for more stu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B6F-0261-4EBB-AAD8-9B1105C8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77680"/>
            <a:ext cx="82296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7EF-CE8E-4ED9-AAD9-7A5EBFEC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77680"/>
            <a:ext cx="40158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477680"/>
            <a:ext cx="40158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967-BC42-4F3F-9088-7B8FA5EB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26496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590920"/>
            <a:ext cx="26496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590920"/>
            <a:ext cx="26496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77680"/>
            <a:ext cx="26496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477680"/>
            <a:ext cx="26496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477680"/>
            <a:ext cx="26496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DAB-BEB1-4DD5-B7A4-66897391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59092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ADA-1B62-45F8-AB71-E98D3E0A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60C-7DEC-48EA-93D8-8D80C8F5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2FC-B5F0-45CA-A7B9-4B225248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014-5228-4F1C-806D-6D724F0A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96D-B5EF-41DA-A6E3-911F653A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77680"/>
            <a:ext cx="40158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F95-738A-48BA-A246-6F9AD2E1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477680"/>
            <a:ext cx="40158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2BF-9324-4E61-AC75-1B379EE0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158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590920"/>
            <a:ext cx="40158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77680"/>
            <a:ext cx="82296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25A-BF43-4090-997E-BF185D4C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76320"/>
            <a:ext cx="9144000" cy="1959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59092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533640"/>
            <a:ext cx="373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5 Scientific Learning Corpo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8733-2934-4865-9B71-81C548A3C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278080" y="4500720"/>
            <a:ext cx="4586400" cy="1571040"/>
            <a:chOff x="2278080" y="4500720"/>
            <a:chExt cx="4586400" cy="157104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2278080" y="4804200"/>
              <a:ext cx="4586400" cy="126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474080" y="4500720"/>
              <a:ext cx="1742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200" bIns="43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42960" y="2858760"/>
            <a:ext cx="7773840" cy="31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se products use neuroscience design methods to improve essential cognitive skill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earning MAPS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- critically important prerequisite skills for successful reading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hen Learning MAPS are stronger, students are able to benefit from good reading instructio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447920"/>
            <a:ext cx="8151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do Fast ForWord Products Improve Read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1828800"/>
            <a:ext cx="684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What are the Learning MAPS?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236232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ory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—the capacity to store information and concepts, essential for word recognition, sentence comprehension, and remembering instruction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tentio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—the ability to focus on tasks and ignore distractions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cessing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—the ability to distinguish sounds quickly to discriminate their differences, a prerequisite for phonemic awareness and reading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quencing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—a cognitive skill that relies on memory, attention, and processing, essential for phonics, word fluency, reading and oral comprehens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does Fast ForWord do this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732040"/>
            <a:ext cx="7772400" cy="30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yriad Condensed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ncy and intensity- rigorous schedu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yriad Condense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ptivity- adapts to each click of the mou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Myriad Condensed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ultaneous development- students are building and strengthening multiple skills in each exerc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Myria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Myriad Condensed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ely motivation- immediate feedback and reward of 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6019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uroscience research tells us these are the elements of a successful program to create new neural networks and build learning capa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285920"/>
            <a:ext cx="4718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ast ForWord Langu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54280" y="2286000"/>
            <a:ext cx="5384880" cy="4286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06280" y="2571840"/>
            <a:ext cx="4365720" cy="32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gnitive Ski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stening Accurac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onological Awaren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orking Memo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nguage Struc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ndation Ski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69520" y="242892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chedule Opt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 min/day, 5 days a week for 4-8 wee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5 min/day, 5 days a week for 6-10 wee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0 min/day, 5 days a week for 8-12 wee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*Number of weeks is variable based on individual student progres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523880"/>
            <a:ext cx="5094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ForWord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371600"/>
            <a:ext cx="6683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ForWord Middle &amp; High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6280" y="2357280"/>
            <a:ext cx="3348000" cy="40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gnitive Skil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stening Accurac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onological Awaren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orking Memo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nguage Struc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ndation Skil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54280" y="2214720"/>
            <a:ext cx="5403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214280"/>
            <a:ext cx="62467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ForWord Language to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58760" y="2500200"/>
            <a:ext cx="3274920" cy="42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gnitive Ski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glish Langua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stening Comprehens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rganization and Foc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ord Analys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undation Ski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33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88"/>
              </a:spcBef>
              <a:buClr>
                <a:srgbClr val="ff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335400" y="2143080"/>
            <a:ext cx="538632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05920" y="2714400"/>
            <a:ext cx="89377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their child attends school as much as possible during Fast ForWord 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 good night’s sleep and breakfas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k about their progress, to see their graphs and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out Parent Observational Survey before and after Fast ForWord training to discover behavioral chang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643040"/>
            <a:ext cx="55306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hat can parents do to help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2499840"/>
            <a:ext cx="77738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all know children who are bright and motivated to learn, but hit some kind of a wall when they go to schoo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don’t seem to make progress, they don’t listen well, and they have trouble learning to rea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 much potential, but how to unlock it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447920"/>
            <a:ext cx="6114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blems Children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05920" y="2643120"/>
            <a:ext cx="865980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understand what you s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est that information be repeat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 slow or delayed respons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nly a few descriptive words when speak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m reluctant to engage in conversa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difficulty reconstructing a story in its appropriate ord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1447920"/>
            <a:ext cx="516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es Your Child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42960" y="23572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difficulty remembering/following oral instru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member the question when ask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difficulty with ambiguous language, idioms or jo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difficulty with phonics, reading or spell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unexplained behavior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447920"/>
            <a:ext cx="6403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chool or at home, does your child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ShockwaveFlash1"/>
          <p:cNvGraphicFramePr/>
          <p:nvPr/>
        </p:nvGraphicFramePr>
        <p:xfrm>
          <a:off x="1152360" y="2214720"/>
          <a:ext cx="676764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2214720"/>
                    <a:ext cx="6767640" cy="4400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-22680" y="1357200"/>
            <a:ext cx="57398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ifferent Brain Activity in Read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tudent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Prepared to Learn:</a:t>
            </a: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Paying Attention, Not Storing Multiple Commands and Not Assigning Meaning to What is Said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2" name="ShockwaveFlash1"/>
          <p:cNvGraphicFramePr/>
          <p:nvPr/>
        </p:nvGraphicFramePr>
        <p:xfrm>
          <a:off x="2438280" y="2971800"/>
          <a:ext cx="45720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971800"/>
                    <a:ext cx="4572000" cy="3452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60400" y="2571840"/>
            <a:ext cx="2111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verage Read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81560" y="2357280"/>
            <a:ext cx="23288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yslexic Reader before Fast ForW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27840" y="2357280"/>
            <a:ext cx="22557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yslexic Reader after Fast ForW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20800" y="5786280"/>
            <a:ext cx="74232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dapted from Temple et al.,</a:t>
            </a:r>
            <a:br>
              <a:rPr sz="1500"/>
            </a:b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Proceedings of the National Academy of the Sciences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, 200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76201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fter Fast ForWord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981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erage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19051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slexic Reader before Fast For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19051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slexic Reader after Fast For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30960"/>
            <a:ext cx="7772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apted from Temple et al.,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Proceedings of the National Academy of the Scienc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8724960" cy="2248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1829520"/>
            <a:ext cx="194652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2680" rIns="112680" tIns="56520" bIns="565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verage 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1905840"/>
            <a:ext cx="3132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2680" rIns="112680" tIns="56520" bIns="565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yslexic, befo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ast For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2000" y="1677600"/>
            <a:ext cx="3132000" cy="12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2680" rIns="112680" tIns="56520" bIns="565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ew cortical areas active af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ast For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000840" y="4876560"/>
            <a:ext cx="3142800" cy="1144080"/>
            <a:chOff x="6000840" y="4876560"/>
            <a:chExt cx="3142800" cy="1144080"/>
          </a:xfrm>
        </p:grpSpPr>
        <p:sp>
          <p:nvSpPr>
            <p:cNvPr id="79" name=""/>
            <p:cNvSpPr/>
            <p:nvPr/>
          </p:nvSpPr>
          <p:spPr>
            <a:xfrm>
              <a:off x="6773400" y="4876560"/>
              <a:ext cx="1608120" cy="357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2680" rIns="112680" tIns="56520" bIns="5652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</a:rPr>
                <a:t>Lef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00840" y="5176080"/>
              <a:ext cx="3142800" cy="844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12680" rIns="112680" tIns="56520" bIns="5652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fference between activity before and after Fast ForWo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3300120" cy="2606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31680" y="6196320"/>
            <a:ext cx="917568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2680" rIns="112680" tIns="56520" bIns="56520" anchor="ctr">
            <a:spAutoFit/>
          </a:bodyPr>
          <a:p>
            <a:pPr algn="r"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Temple et al.,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ceedings of the National Academy of the Scien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rcRect l="52856" t="40315" r="3371" b="33936"/>
          <a:stretch/>
        </p:blipFill>
        <p:spPr>
          <a:xfrm>
            <a:off x="6019920" y="2743200"/>
            <a:ext cx="2666880" cy="2187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rcRect l="56299" t="0" r="0" b="0"/>
          <a:stretch/>
        </p:blipFill>
        <p:spPr>
          <a:xfrm>
            <a:off x="7783560" y="3200400"/>
            <a:ext cx="13604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s Student is now prepared to learn: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ing Attention, Storing Multiple Commands and Assigning Meaning to What is Said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6" name="ShockwaveFlash1"/>
          <p:cNvGraphicFramePr/>
          <p:nvPr/>
        </p:nvGraphicFramePr>
        <p:xfrm>
          <a:off x="2438280" y="2743200"/>
          <a:ext cx="41799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743200"/>
                    <a:ext cx="4179960" cy="3657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47920"/>
            <a:ext cx="5715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ast ForWord Products are proven to help build learning capacity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69880" y="2714760"/>
            <a:ext cx="3203640" cy="1576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52760" y="2733840"/>
            <a:ext cx="3640320" cy="1674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69880" y="4667400"/>
            <a:ext cx="3348000" cy="1833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1480" y="4714920"/>
            <a:ext cx="3784680" cy="176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535120" y="3000240"/>
            <a:ext cx="29052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rcRect l="0" t="5000" r="0" b="0"/>
          <a:stretch/>
        </p:blipFill>
        <p:spPr>
          <a:xfrm>
            <a:off x="6319800" y="4929120"/>
            <a:ext cx="331920" cy="1357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565360" y="5286240"/>
            <a:ext cx="333360" cy="1000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6319800" y="3071880"/>
            <a:ext cx="306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20:55:45Z</dcterms:created>
  <dc:creator>mpetrillo</dc:creator>
  <dc:description/>
  <dc:language>en-US</dc:language>
  <cp:lastModifiedBy>JAMES LEE</cp:lastModifiedBy>
  <dcterms:modified xsi:type="dcterms:W3CDTF">2010-06-01T18:26:01Z</dcterms:modified>
  <cp:revision>8</cp:revision>
  <dc:subject/>
  <dc:title>Slide 1</dc:title>
</cp:coreProperties>
</file>